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D40-AEC6-4469-90E5-E38EAB9C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259-5686-4A83-B5B8-F241E4C5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A77-AE14-48A4-BA4B-28413324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A81-FDAC-408A-AC6E-4340ED4E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A18-2F2C-442B-B557-8FB8FAC2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6B0-AA26-47AE-8BC5-B1355925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5FB-6AAD-4C4D-AB9C-482F4860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A9E-82E0-4C34-A159-08D1A32A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DCF-0C7E-477D-9D63-F2A829EA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97C-640C-4393-A929-63C207BF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6F93-8EE4-4A21-86B3-2608F968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FC7-9A60-421A-AF31-A608454B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450F-4D14-404B-AC4E-3AF68EDF0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Week Of Mathematical Advent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d By Tom Palumb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51814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The Catapult Learning Seri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PAT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24200" y="2522520"/>
            <a:ext cx="1695600" cy="1811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724200" y="2522520"/>
            <a:ext cx="1695600" cy="1811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514600" y="1676520"/>
            <a:ext cx="4114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Mon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I aced the math t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2446200"/>
            <a:ext cx="5943600" cy="364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th Tes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         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Tues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I gave body measurement my b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37080" y="2540160"/>
            <a:ext cx="1868400" cy="177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81080" y="2540160"/>
            <a:ext cx="55627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Wednesday’s money problems were a b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65680" y="2570040"/>
            <a:ext cx="1411200" cy="1716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81360" y="2535120"/>
            <a:ext cx="1781280" cy="1785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828800" y="2514600"/>
            <a:ext cx="563868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Thursday my team found the area of our hall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2320920"/>
            <a:ext cx="44197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Fri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we played “What’s My Rule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791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Saturday I pretended teaching division in school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2674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Sun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, EveryDay Math was easy to study. I had my dad as my bud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65520" y="2679840"/>
            <a:ext cx="1812960" cy="1498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5790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7:48:59Z</dcterms:created>
  <dc:creator>Thomas J. Palumbo</dc:creator>
  <dc:description/>
  <dc:language>en-US</dc:language>
  <cp:lastModifiedBy>Tom Palumbo</cp:lastModifiedBy>
  <dcterms:modified xsi:type="dcterms:W3CDTF">2009-03-19T12:13:25Z</dcterms:modified>
  <cp:revision>25</cp:revision>
  <dc:subject/>
  <dc:title>A Week Of Adventures</dc:title>
</cp:coreProperties>
</file>